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B01-8541-4911-8FDB-64A3C860C8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拦截器）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共用的行为独立出来，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执行前后运行。这也就是我们所说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 Oriented Programmin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面向切面编程），它是分散关注的编程方法，它将通用需求功能从不相关类之中分离出来；同时，能够使得很多类共享一个行为，一旦行为发生变化，不必修改很多类，只要修改这个行为就可以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表达式语言的核心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j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h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ga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这也是其它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种非常美妙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发框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pestry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Object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约而同的选择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ognl.org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是一种表达式，通过它简单一致的表达式语法，可以存取对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任意属性，调用对象的方法，遍历整个对象结构图，实现自动类型转化等等几乎是所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能够实现功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业务模型是整个系统中最稳定的部分，而展现给用户的实际界面则经常频繁的变动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Times New Roman"/>
              </a:rPr>
              <a:t>MVC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把系统易变的部分和相对稳定的部分分离，从而保证了设计和代码的可重用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简洁、灵活功能强大，它是一个标准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式实现，并且完全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层脱离出来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提供了很多核心功能：前端拦截机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，运行时表单属性验证，类型转换，强大的表达式语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GNL – the Object Graph Notation Languag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ion of Contro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倒置控制）容器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建立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work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之上，处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响应和请求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Dispatc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求的变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业务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, sess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会话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应用程序）范围的映射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请求参数映射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Work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支持多视图表示，视图部分可以使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SP, Velocity, FreeMarker, JasperReport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为什么要实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接口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2F0-A53A-43E7-BFDC-E5B74200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AA6-F637-4F55-8399-403412B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521-56C5-4F19-B733-2627C8DB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6BA-B148-4B38-907B-9D27ECC0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0D80-65A7-46EB-9580-8E0EE69E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E219-498A-4741-BEB5-E68B105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55C6-C48B-4445-92D6-2FE81181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442-7C36-4EB2-B8C5-60A6373F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9E6C-FB97-4382-AC7D-609B5CA2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716-5FB5-4C14-8C12-680F82E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F884-1403-447B-80A6-A61A0982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84C-4761-492D-9202-468952C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2953-2B2B-4381-8F91-1A68C84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896D-25FD-43D7-B3D5-5CB29CD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93B-2698-4D25-A303-3685017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079F-6E41-49DF-BC31-ADA60750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45CC-FAFD-45B9-8A7D-4CDF9733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B3C-702B-4ED1-BEB9-A69D69C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A58-499E-4716-92AE-74A698FA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36AE-AE41-4CAC-B9B8-D91BF25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48B-2E6B-4587-9C03-3FEA81D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F71-B851-4D9B-A298-C17F82B8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B58-28EB-403C-8C34-DB0133E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86B-4D26-426A-A263-3377B31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AD86-4115-4F6B-B926-700C47CB32C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E452-C7AD-4F20-915D-5A34FA02DAB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培训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219640" y="2565000"/>
            <a:ext cx="3484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作者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xie(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安子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429000"/>
            <a:ext cx="7292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学员要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掌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sp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vaServlet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，并有一定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编程经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课程目的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理解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核心原理，掌握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开发的相关知识，并能使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进行实际开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1638-BC88-4E62-B412-DDDAA74976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二、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层次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708280"/>
            <a:ext cx="158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270828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2708280"/>
            <a:ext cx="1295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5640" y="306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306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789360"/>
            <a:ext cx="705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管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生命周期，它是设置和执行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起始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Invoca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：在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Proxy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层之下，它表示了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的执行状态。它持有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实例和所有的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ce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429-E1A0-4B0F-B7C7-883086617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81240" y="2281320"/>
            <a:ext cx="4772160" cy="32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9B5-A86E-4431-A92D-F778CC629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cep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"Practical AO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simple, no external dependenc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intercept action inv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decouple and componentize your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ceptors are organized into 'stacks'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s of interceptors applied in sequ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ed to any action or package of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bWork is mostly implemented as a series of XWork intercepto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1DE-4023-4718-8A5A-18490D699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TimerIntercep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TimerInterceptor implements Intercepto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ring intercept(ActionInvocation dispatcher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...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ng startTime = System.currentTimeMillis();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ing result = dispatcher.invoke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ng exTime = System.currentTimeMillis() - startTime;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.info(dispatcher.getProxy().getActionName() + " ran in " + exTime + "ms."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work.x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 name="timer"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ass="com.opensymphony.xwork.interceptor.Timer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interceptors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4DC-9A6D-4999-B285-1092DA4CD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执行顺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截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执行，并在它的之前或之后调用相应的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stack name="xaStack"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Firs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Nex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interceptor-ref name="thisWillRunLastInterceptor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Fir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Nex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La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Action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yResult (resul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La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Nex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WillRunFirstInterce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1C0-0F23-400C-B344-A9894A791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ueSta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以把它简单的看作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Objec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放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的对象，一般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上下文，它包含一些列对象，包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/session/attr/application map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存取对象的任意属性，调用对象的方法，遍历整个对象结构图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6E3-845E-4362-A4B9-9DD0BB3436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ltTyp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之后返回的一个字符串常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表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完成的状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是一个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，并返回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后调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用来决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什么方式展现界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result-type name="dispatcher" class="com.opensymphony.webwork.dispatcher.ServletDispatcherResult" default="true"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result name="success" type="dispatcher"&gt;/register/registerSuccess.jsp&lt;/resul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CCA2-0135-4D69-9811-5694230D3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三、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标签库和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property value=“”/&gt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取值输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iterator value=“” status=“”/&gt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迭代标签，可以输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ion, Iterator, Enumeration, Map, array, XML Node, or XML Node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s: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用来取得迭代器的状态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Count(), getIndex(), isFirst(), isLast(), isEven(), isOdd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if test=“”&gt; &lt;/ww:i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elseif test=“”&gt;&lt;/ww:eleseif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lt;ww:else&gt;&lt;/ww:els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B71-904B-44FB-9DFE-E95DB661FA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pression Langua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66640" y="2805120"/>
          <a:ext cx="8001000" cy="300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NL 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Employee().getName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to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tEmployee().toString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relations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 element of the Relations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 in {null, "Rick"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 is name is null or R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.relations.{nam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ls getName() on each relations in the collection returning a new coll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611280" y="191628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例子－员工登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A6D-0776-4023-A0E3-A2BBE0082F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四、实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验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模块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类多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文件上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重复提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进度条显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2EE-5DCC-45D5-B6D2-0303A306AB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入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签库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832-97EC-41BE-8447-DB5A1F91C2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验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验证框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属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减弱验证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间的耦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信息存储在独立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件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出错信息放置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插拔的验证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验证机制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A99-2DE4-4CB7-8861-F118ABE5A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已提供的验证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66640" y="1752480"/>
          <a:ext cx="8001000" cy="42958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!= 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eld != null &amp; string.length() 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er is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e is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 emai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id UR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ession/Field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OGNL expression evaluates to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. pet.name != "dog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ows you to create very powerful validations using just XML and your existing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548-4E72-4CBD-AF24-24CC7E2554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注册验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2421000"/>
            <a:ext cx="792000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3672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3068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6320" y="2637000"/>
            <a:ext cx="9144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928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581360"/>
            <a:ext cx="1873080" cy="71928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RegisterAction-validation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284640"/>
            <a:ext cx="86328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4006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3860640"/>
            <a:ext cx="914400" cy="792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580000" y="306828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350028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59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验证出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9F0-D47E-4B7E-BCD0-4069F2B85C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多模块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配置文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:packag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之间可以继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pac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用来区分不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ag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B16-0C62-4567-A481-98E4AD0B2D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类多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方法要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无参数，返回一个字符串类型，抛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p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例如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c String doDefault() throws Excetp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 INPU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定义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直接访问，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tionName!methodName.action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。例如：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ster!doDefault.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、在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中定义，使用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属性。例如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action name="registerDefault" class="com.skyon.demo.register.RegisterAction"  method=“doDefault”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……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8CF-2CC3-4F5E-9098-48EC26EF5C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文件上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fileUpload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692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06920" y="3213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70560" y="28526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upload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620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fileUpload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C61-7C4E-4BE0-94D8-27D3303224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防止重复提交（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ouble click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页面中设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ww:token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input type="hidden" name="webwork.token.name" value="webwork.token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lt;input type="hidden" name="webwork.token" value="5J573PYGWC131FIM39Y03PYZX5P2Z0JC"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ssion.setAttribute(tokenName, tok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配置拦截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enInter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kenSessionStoreInterceptor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保存了上次操作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AEB-70E1-4107-93EE-804EC770C9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进度条显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0692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06920" y="3068280"/>
            <a:ext cx="86544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45240" y="33782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620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94320" y="24433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wai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3068640"/>
            <a:ext cx="1295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E4B-D807-4255-A367-216B8268EF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总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重用（松耦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无侵入）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接口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无关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ce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功能强大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验证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灵活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Bean/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数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、多视图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074-F67A-4D76-9050-27E78B4207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结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Verdana"/>
                <a:ea typeface="华文行楷"/>
              </a:rPr>
              <a:t>谢谢各位！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1B0-EAE6-442C-A15D-6B3C0F49AB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原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VC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模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VC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初是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talk-8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被用来构建用户界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实现了应用领域的业务模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来展现模型中的数据和内部状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也称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lo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它协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把用户请求翻译成系统识别的事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3E7-254E-4CA2-8787-E0CBF9F92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2ee Web Frame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之现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灵活、简单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ing Web Frame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最全面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ts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资源最丰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pestry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组件化最完美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SF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接近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p.n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l: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最适合集成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框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AC3-2EFC-4F68-B4BF-77F16441F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概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57600" y="42451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3" idx="1"/>
          </p:cNvCxnSpPr>
          <p:nvPr/>
        </p:nvCxnSpPr>
        <p:spPr>
          <a:xfrm>
            <a:off x="2819160" y="3863880"/>
            <a:ext cx="172476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3"/>
            <a:endCxn id="107" idx="1"/>
          </p:cNvCxnSpPr>
          <p:nvPr/>
        </p:nvCxnSpPr>
        <p:spPr>
          <a:xfrm flipV="1">
            <a:off x="2819160" y="3025440"/>
            <a:ext cx="172476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900000" y="3330720"/>
            <a:ext cx="1905120" cy="106668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57600" y="2492280"/>
            <a:ext cx="1905120" cy="1067040"/>
          </a:xfrm>
          <a:prstGeom prst="rect">
            <a:avLst/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Wor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19720" y="3711600"/>
            <a:ext cx="457200" cy="380880"/>
          </a:xfrm>
          <a:prstGeom prst="upArrow">
            <a:avLst>
              <a:gd name="adj1" fmla="val 50000"/>
              <a:gd name="adj2" fmla="val 47083"/>
            </a:avLst>
          </a:pr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0" y="249228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0" y="4245120"/>
            <a:ext cx="304920" cy="99036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B68-F4CC-4F36-9691-9C37CEA88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请求的动作都对应于一个相应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是一个独立的工作单元和控制命令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它必需要实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里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接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1508400" y="3371760"/>
            <a:ext cx="526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interface Action extends Serializabl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SUCCESS = "success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NONE = "non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ERROR = "error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INPUT = "input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atic final String LOGIN = "login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blic String execute() throws 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E47-B94A-4819-81EF-44C4AF960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421000"/>
            <a:ext cx="792000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例子－用户注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70828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20720" y="32130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3284640"/>
            <a:ext cx="914400" cy="914400"/>
          </a:xfrm>
          <a:prstGeom prst="foldedCorner">
            <a:avLst>
              <a:gd name="adj" fmla="val 125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xwork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321300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64000" y="321300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85264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Success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285264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register.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094-86D5-4343-9CB7-723F7940F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Supp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提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常用功能的一个基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错误消息的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tion and field specific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 errors are automatically supported by 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国际化支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resource bundle per 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vasive UI support for retrieving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91F-9C54-4DA6-9B06-B751A3C38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tionContex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一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调用都会创建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调用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ionContext context = ActionContext.getContext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Work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，它通过包装提供了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访问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ession —— context.getSession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ervletRequest parameters —— context.getParameters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Action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继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on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可以直接访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相关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I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Contex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ervletReques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ServletRespons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Config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let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BEF-CE26-4C31-BDF5-254DA3D340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ud</cp:lastModifiedBy>
  <dcterms:modified xsi:type="dcterms:W3CDTF">2005-11-17T14:48:01Z</dcterms:modified>
  <cp:revision>140</cp:revision>
  <dc:subject/>
  <dc:title>PowerPoint Presentation</dc:title>
</cp:coreProperties>
</file>